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A26-7C45-44C1-92CC-937AD9A002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48F-2C0D-48DA-8606-35E9AE6F2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05E-E20F-4C37-980D-C20F02A8E9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CCF2-F14E-4023-A1EE-B5C4D2EC7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058-ABAF-4346-8805-C577ED2A8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7" descr="logo"/>
          <p:cNvPicPr/>
          <p:nvPr/>
        </p:nvPicPr>
        <p:blipFill>
          <a:blip r:embed="rId2"/>
          <a:stretch/>
        </p:blipFill>
        <p:spPr>
          <a:xfrm>
            <a:off x="763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2412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680" y="152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Black"/>
              </a:rPr>
              <a:t>Who wants to be a Millionaire?</a:t>
            </a:r>
            <a:endParaRPr b="0" lang="en-US" sz="4800" spc="-1" strike="noStrike">
              <a:solidFill>
                <a:srgbClr val="cc66ff"/>
              </a:solidFill>
              <a:latin typeface="Arial Black"/>
            </a:endParaRPr>
          </a:p>
        </p:txBody>
      </p:sp>
      <p:pic>
        <p:nvPicPr>
          <p:cNvPr id="48" name="Picture 5" descr="logo"/>
          <p:cNvPicPr/>
          <p:nvPr/>
        </p:nvPicPr>
        <p:blipFill>
          <a:blip r:embed="rId1"/>
          <a:stretch/>
        </p:blipFill>
        <p:spPr>
          <a:xfrm>
            <a:off x="76320" y="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 Ed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6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800" y="2293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rate in which the second quantity in the comparison is one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Unit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Unit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3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opposite of a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6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vent made up of 2 or more simpl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25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difference between the upper and lower quartiles in a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ter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er Quar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Upper 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Upper Quar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ter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5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6480" y="233208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fraction that contains one or more fractions in the numerator, the denominator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x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Fractioned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ormal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x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65280" y="2293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Pair of angles that share a vertex and one side but do not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ilar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gru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ox plot values are from calculating the _________ of the number s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352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57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cc66ff"/>
                </a:solidFill>
                <a:latin typeface="Arial Black"/>
              </a:rPr>
              <a:t>Confident?</a:t>
            </a:r>
            <a:endParaRPr b="0" lang="en-US" sz="106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ngle that measures greater than 0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° and less than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cut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btus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igh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Fla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cut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pposite angles formed by 2 intersect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mentary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upplementary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85800" y="221760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line segment that passes through the center of a circle and has endpoints on 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ircum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Matching sides of 2 or more poly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rresponding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rresponding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symbol used to represent a quantity that can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terest earned or paid on a principal and previous earned or paid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ome 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et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8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formula: I=Prt, is used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version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axabl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Don-PC</cp:lastModifiedBy>
  <cp:lastPrinted>2000-12-04T09:55:57Z</cp:lastPrinted>
  <dcterms:modified xsi:type="dcterms:W3CDTF">2015-03-30T19:35:32Z</dcterms:modified>
  <cp:revision>71</cp:revision>
  <dc:subject/>
  <dc:title>Who wants to be a Physiology Millionaire?</dc:title>
</cp:coreProperties>
</file>